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322C-184D-4AED-92B6-9DAB091D7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D7B2-8007-41C4-A5E4-637B67CB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E755-159D-4921-929C-A8BAD24DC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A793-7EA4-43E3-ACBE-A9353142D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EABB-0683-40C2-BD18-93469AAD4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0E6B-2991-4FD5-AF5A-248734D1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E991-9C49-4463-B205-A716650C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9242-11F9-4E6E-9CBD-2D2D3CB8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114D-6827-4D81-800A-4FF51EF4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1767-EF96-4CF8-9307-74511002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0FA2-D286-4CAA-8569-10A61DAF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01E7-5472-4E17-92C7-DCF462BA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E124-CCE6-4202-84F5-EF22C560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77C4-78E2-4C51-9303-4D8E3332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7E7A-D052-48E7-8E54-B95EC86D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ABDD-28CB-4ABA-BDC2-02C0CECB1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9FC3-7DB6-4235-A6AC-561358AAC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1865-4654-4740-A95D-7FBB930B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140E-D628-41C9-853A-ABC7A277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52B9-91BD-4520-B246-F80265E9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44DC-EFDA-4E33-B09E-C16AB340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1EB5-05AE-4F7E-B1DF-1DC95251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C996-76BF-4007-A65A-14C9F506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B90A-CB0E-40E8-B261-B5727387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EF79-59A4-423B-8B5B-E2308526B77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2C40-F002-4860-890E-4EE2011F68E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66"/>
                </a:solidFill>
                <a:latin typeface="Arial"/>
              </a:rPr>
              <a:t>Emulateur Java Card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66"/>
                </a:solidFill>
                <a:latin typeface="Arial"/>
              </a:rPr>
              <a:t>Projet de fin d’étude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66"/>
                </a:solidFill>
                <a:latin typeface="Arial"/>
              </a:rPr>
              <a:t>ENSIMAG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66"/>
                </a:solidFill>
                <a:latin typeface="Arial"/>
              </a:rPr>
              <a:t>24 juin 2002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3280" y="5300640"/>
            <a:ext cx="43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66"/>
                </a:solidFill>
                <a:latin typeface="Arial"/>
              </a:rPr>
              <a:t>Luke Jacks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66"/>
                </a:solidFill>
                <a:latin typeface="Arial"/>
              </a:rPr>
              <a:t>Imperial College, Lond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SecSaf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Projet européen pour rechercher la viabilité de l’analyse statique pour les grands systèm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Systèmes Internet et systèmes carte à pu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’analyse statique est l’analyse structurelle d’un logiciel: l’analyse est faite sans exécu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Analyse de types peut se faire sans exécu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Analyse de valeurs ne peut pas se faire sans exécu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Analyse statique d’un logiciel peut se faire automatiquement par un outi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Carm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Conçu pour faire subir des preuves sur le langage de la machine virtuelle Java Ca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Preuves d’une propriété fait sur Java exigent une preuve additionnelle pour montrer que la compilation préserve la propriét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Ni la compilation ni la preuve ne sont trivi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Représentation textuelle d’un fichier .cla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Facilite la définition des sémantiques et preuv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Facilite la communication entre humai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Carmel - Exe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55640" y="2349360"/>
            <a:ext cx="344664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Ja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package p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public class Number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int value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public C(int value)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// super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// appel implici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this.value = value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140000" y="2349360"/>
            <a:ext cx="500364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Carm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package p { 0x00,0x00,0xAF,0x05,0x01 }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public class Number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int value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public void &lt;init&gt;(int)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0: load r 0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1: invokedefinite Object.init(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2: load i 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3: putfield this valu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4: retur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Buts de proje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Modélisation d’un Java Ca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cture des applets définis en Carm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Interprétation des applets qui respecte les sémantiques opérationnelles (machine virtuell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Interface graphique pour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Exposer l’état de la machi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Simuler l’interaction avec un lecteur de car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Contrôler l’exécution des applets (pas à pa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Buts de proje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Exécution depuis le We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Conception modulaire pour que les composants puissent être réutilisé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ex: pour développement d’un analyseur statiqu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Mai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Quatre mois ne sont pas suffisants pour tout faire, et donc des omissions étaient permi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Choix initi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Architecture côté cli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Plus réactiv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Permet une interface plus riche que l’HTM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Ja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Très proche de Carmel, permet l’implémentation directe des opérateurs, valeurs primitif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Multi plateforme et donc très adapté à l’exécution du We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Outils (générateurs de parseurs, etc.) disponib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On est sur que les utilisateurs ont installé Jav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Partie 1 – Chargement des apple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Chargement en plusieurs pas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xer: fait l’analyse lexica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Parser: fait l’analyse grammatica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Tree Builder: construit l’arbre syntaxique abstra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inker: résout des liens symboliqu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Verifier: vérifie que certaines propriétés sont respectées afin d’assurer la sécurit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Package Loader: gère les passes et met en cache des paquet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Choix de générateur de lexer/parse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Sun JavaC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Top dow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Support « action code 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1 000s d’utilisateu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ANTL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Très similaire à JavaC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Ne supporte pas Uni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Mort 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SableC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Top dow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Génère obligatoirement un arbre syntaxique concr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Impose des décisions sur la concep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JLex/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Bottom u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Difficile à débogu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Choix de générateur de lexer/parse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Ou… manuellement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Customisation complète vers le lang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Il aurait pris trop longtemp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Bogues facile à faire mais pas facile à débogu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Normalement moins effica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Pourquoi JavaC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Beaucoup de docu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En développement acti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Le plus flexi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Parser/Lex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Implémentation à partir d’une grammaire existante pour Ja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Suppression des productions inuti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Redéfinition de la production pour les express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Transtypage et/ou négation suivi par une consta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Définition des nouvelles produc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Un bloc d’instruc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Les 30 instructions, et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En implémentant le parseur, j’ai défini la syntaxe concrète de Carm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Un Java Card est une carte à puce qui exécute des « applets » Ja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Un projet en collaboration avec SecSafe, un projet europé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Avant de donner les buts de projet, on commence avec le contexte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Tree Build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Implémenté par « action code 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Chaque production devient une métho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On peut insérer du code dans une production pour faire de la vérification et pour construire les nœuds de l’arbre syntaxique abstra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a méthode retourne soit un nœud, soit l’attribut d’un nœu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Link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Linker à deux pas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Résolution de références vers les classes et les champs – peut charger des paquetag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Résolution de références vers les méthod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Pourquoi deux pass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Eviter les boucles infinies quand deux paquetages se référenci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Permettre la résolution des méthodes surcharg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Pourquoi deux passe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32000" y="2781360"/>
            <a:ext cx="3168720" cy="2860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package a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class A {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b.B reference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public void main() {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// invocation B.test(c.C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76720" y="2781360"/>
            <a:ext cx="2951280" cy="2860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package b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class B {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a.A reference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public void test(c.D) { … }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public void test(c.C) { … }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059280" y="2997360"/>
            <a:ext cx="2017440" cy="792000"/>
          </a:xfrm>
          <a:prstGeom prst="line">
            <a:avLst/>
          </a:prstGeom>
          <a:ln w="936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4066920" y="2997360"/>
            <a:ext cx="1152360" cy="792000"/>
          </a:xfrm>
          <a:prstGeom prst="line">
            <a:avLst/>
          </a:prstGeom>
          <a:ln w="936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140360" y="4508640"/>
            <a:ext cx="1152360" cy="288720"/>
          </a:xfrm>
          <a:prstGeom prst="line">
            <a:avLst/>
          </a:prstGeom>
          <a:ln w="936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2421000"/>
            <a:ext cx="505080" cy="576360"/>
          </a:xfrm>
          <a:prstGeom prst="line">
            <a:avLst/>
          </a:prstGeom>
          <a:ln w="936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40360" y="4797360"/>
            <a:ext cx="1152360" cy="287280"/>
          </a:xfrm>
          <a:prstGeom prst="line">
            <a:avLst/>
          </a:prstGeom>
          <a:ln w="936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88000" y="4581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Algorithme de chargement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Analyses lexicale et grammaticale, construction d’arbre syntaxique abstra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Première passe du link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Les paquetages référencés sont chargés avec étape 1 seulem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Apres la première passe, étape 2 est exécuté sur tous les paquetages chargés en étape 2.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Deuxième passe du link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Tous paquetages référencés sont déjà chargés jusqu’à l’étape 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Apres la deuxième passe, étape 3 est exécuté sur tous les paquetages chargés en étape 2.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Algorithme de chargement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Complétion sans erreu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 paquetage et tous ses paquetages référencés sont chargés, et donc ils sont tous mis dans le cach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Erreur en chargeant un paquetag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Tous les paquetages en train d’être chargés sont abandonné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Partie 2 – Interpré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Interprétation à partir de l’arbre syntaxique abstra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Il a fallu respecte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s sémantiques opérationnelles définies par SecSaf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a spécification de la machine virtuelle Java Card par Sun, qui référenci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a spécification de la machine virtuelle Ja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Comment interpréter une instruction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Une instruction est référencée par une référence de type Instruction, une classe abstraite qui est le parent de toutes les instruc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Donc, on a besoin du type dynamique de l’instru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Il y a plusieurs solutions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Solution 1: instanceof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30 if-else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Pas effic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Solution sa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Pas une solution orientée obj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for each instruction {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if (i instanceof x) {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// interpret x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}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else if (i instanceof y) {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// interpret y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}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else if (i instanceof z) {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// interpret z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}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// etc.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else { /* ??? */ }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}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Solution 2: IDs numéri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Chaque instruction a un champs ID avec un ID numérique uniqu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Effica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Ma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Pas orienté obje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ID est redondan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Le programmeur doit assurer que les ID sont uniques, donc pas sû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Facile a oublier le « break; 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for each instruction {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switch (instruction.ID) {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case Instruction.X: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// interpret x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case Instruction.Y: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// interpret y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case Instruction.Z: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// interpret z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// etc.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default: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// ???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}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}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Solution 3: méthodes virtuel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87828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La méthode invoquée dépend du type dynamiqu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Orienté obje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Effica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Ma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Ajout d’une opération = ajout d’une méthod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Changement d’une opération = recompilation des instruc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Pas d’état conservé entre les instruc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for each instruction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instruction.interpret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abstract class Instruction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abstract void interpret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class InstructionX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 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extends Instruction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void interpret()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// interpret x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Cartes à Pu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Quelques exempl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Cartes bancaires (débit, crédit, monnaie électroniqu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Cartes SI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Cartes téléphoniqu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Cartes d’identification pour se connecter aux réseau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Cartes contre le piratage de la télévision numériqu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Solution Finale: Visitor Design Patter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405080" y="2349360"/>
            <a:ext cx="6621480" cy="28004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8080" y="5229000"/>
            <a:ext cx="7693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Double appel de méthode: une opération implémente les méthodes de Visitor pour s’exécut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Visitor Design Pattern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Support pour plusieurs opér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Interprétation, Link passe 1, Link passe 2, et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Tout le code pour une opération est regroupé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Possibilité de conserver un état entre instruc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Changement ou ajout d’une opération </a:t>
            </a:r>
            <a:r>
              <a:rPr b="0" lang="fr-FR" sz="2400" spc="-1" strike="noStrike">
                <a:solidFill>
                  <a:srgbClr val="003366"/>
                </a:solidFill>
                <a:latin typeface="Arial"/>
                <a:ea typeface="Arial"/>
              </a:rPr>
              <a:t>≠ recompilation des instruc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  <a:ea typeface="Arial"/>
              </a:rPr>
              <a:t>Efficace et orienté obj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Java Card Framewor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Ensemble des clas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Classes du système: Object, Exception, et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Simplifier la communication avec le lecteur de car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Faire de la cryptographi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Il y a une quarantaine des classes et plusieurs méthodes natives a implément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200+ pages de spécifications 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Méthodes natives exigent une modification de la syntaxe et de la conception pour les exécut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Je n’ai implémenté que les classes du systè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Partie 3 – Interface Graphiqu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Choix entre AWT et Swing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AWT (Abstract Windowing Toolki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Implémenté par le système d’exploi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Seulement les composants en commun sont supporté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Swing (ou JFC – Java Foundation Class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Implémenté en Jav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Grande choix des composants riches et extensib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Moins rapide que AW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J’ai choisi Swing parce que l’interface est complexe et la vitesse n’est pas si importa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Model-View-Controller Design Patter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 modèle donne accès a l’état ou aux donn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a vue s’abonne avec le modèle pour mettre à jour sa représentation graphique du modè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 contrôleur s’effectue des modifications sur le modèle suite aux actions de l’utilisateu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716360" y="2508120"/>
            <a:ext cx="3606840" cy="32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Model-View-Controller Design Patter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Modèles, Vues, Contrôleurs sont définis par des interfa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Ajout et changement des vues, modèles, contrôleurs sans changement de co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Approche modulai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s rôles des objets sont bien défin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Couplage légère entre composa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Modèles et Evénem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838080" y="2349360"/>
          <a:ext cx="7693200" cy="4361040"/>
        </p:xfrm>
        <a:graphic>
          <a:graphicData uri="http://schemas.openxmlformats.org/drawingml/2006/table">
            <a:tbl>
              <a:tblPr/>
              <a:tblGrid>
                <a:gridCol w="3846600"/>
                <a:gridCol w="3846600"/>
              </a:tblGrid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odèl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vénement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nsemble des paquetages chargé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hargement d’un paquetag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e contenu du ta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réation d’un obje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a pile des appels de méthod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éthode invoqué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tour de méthod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ogram Counter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hangement de valeur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a pile des opérand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mpilement d’opérand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épilement d’opérand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es variables local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hangement d’un valeur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762120" y="1773360"/>
            <a:ext cx="71229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5662800" cy="5688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08000" y="1700280"/>
            <a:ext cx="655560" cy="8650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Contrôleu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Appels de métho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Appel de méthodes statiques sans paramèt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Création des objets par constructeur défau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Appel de méthodes d’instance sans paramèt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Exécution pas à p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Boutons « Step Into », « Step Over », « Step Out 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« Halt 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Implémentation de « Step 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Deux threa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Un pour l’interface graphiqu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Un pour l’interpré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Variable « wait » partagé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Avant chaque instruction l’interpréteur appelle une méthode du machine virtuel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Si wait == true, le thread est suspend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Clique sur « Step 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wait = false, notifie le thread qui se réveil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Abonnement d’un « listener » qui fera wait = true si l’état est tel qu’il faut attend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Cartes à Pu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Cartes mémoire (memory card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Processeur: non, opérations prédéfin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Mémoire: ~2K EEPRO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Prix: 1-2€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Cartes intelligentes (chip card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Processeur: typiquement 8- ou 16-b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Mémoire: ~16K ROM, ~16K EEPROM, ~1K RA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Prix: 5-10€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Lancement depuis le Web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Choix entre Java Applet et Java Web Star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Java Appl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Conçu pour petites applications (applets) qui s’affichent dans un page We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Navigation vers une autre site et fermeture du browser terminent l’exécution d’un apple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Java Web Star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Installation automatique en cliquant un li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Le programme est lancé du disque du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Vérification qu’il n’existe une nouvelle vers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Installé avec JDK 1.4, MacOS X.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J’ai choisi Java Web Start parce que le programme n’est pas lié à un site Web, et n’a pas besoin d’accès résea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Démonstr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Chargement d’un appl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Correction d’un erreu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Exécu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Le site We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Résulta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Parser / Linker / Verifier du langage Carm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Définition de la syntaxe concrè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Machine virtuelle Java Car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Interface graphique pour exposer l’état interne et contrôler l’exécution des apple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Développée avec communications régulières avec les utilisateu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Site Web et installation automatique par le We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Introduction et mode d’emploi disponi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Caractéristiq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Réutilisation des décisions de desig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Visit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Model-View-Controll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Solution modulaire qui permet l’extension et réutilisation des composa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Couplage faible entre Loader – Interpréteur – GU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Amélior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Il y a une problème avec le chargement des paquetages du disque dur avec Web Sta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Il va falloir implémenter la recherche de « classpath » manuelle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Ce serait mieux d’aligner les piles pour qu’ils commencent d’en bas et puis mont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Pas si simple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Extens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Il n’y avait pas du temps pour implémente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Une analyse de flot des données pour vérifier la sûreté des types avant l’exécu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 framework des classes et méthodes natives pour modéliser l’interaction entre le lecteur de carte et la car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Extensions intéressan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Breakpoi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Bouton « Back 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Extens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Le développement du programme va être continuer par les membres de SecSaf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Addition de Java Card framewor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Addition d’un analyseur statique pour faire des preuves sur les apple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A vous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Avant Java Car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766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Systèmes d’exploitation fermés, souvent très couplés à l’application qui tournait sur la car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Mélange de code d’application et code de système d’exploit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Pas de portabilité entre OS ou CP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Programmation en assembleur et 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Bas nivea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Pas des objets, méthodes virtuelles, et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Pourquoi Java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Java est un langage répandu, de haut niveau, et orienté obj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Support multi-platefor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Modèle de sécurité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Originalement conçu pour protéger le système du code téléchargé de l’Intern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Support de l’ajout dynamique d’applets dans la car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Java Card v Jav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Similarité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urs syntaxes sont largement similai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Familiarité pour ceux qui connaissent Jav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Ils sont compilés en bytecode et puis interprétés par une machine virtuel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Exécution multi-plateforme sans recompil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Ils ont une bibliothèque de clas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Les développeurs peuvent se concentrer sur le code spécifique pour leurs app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Java Card v Jav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Différenc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Pas de grands types primitif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i.e.: entiers 64-bit, nombres flottants, caractères, chaînes de caractères, tableaux multidimensionnel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entiers 32-bit optionnel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Pas de thre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Pas de chargement de classes dynamiqu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Pas de récupération de mémoire (Garbage Collectio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Compilation d’un applet Java Car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430020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Compilation Java normale, de .java à .cla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Conversion en format CAP (Converted APplet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Détection de caractéristiques non supportées en Java Car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Remplacement de noms par jetons numériq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Enregistrement de noms et leurs jetons dans un fichier EX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28720" y="2421000"/>
            <a:ext cx="7473960" cy="18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2T11:39:29Z</dcterms:created>
  <dc:creator>Luke Jackson</dc:creator>
  <dc:description/>
  <dc:language>en-US</dc:language>
  <cp:lastModifiedBy>Luke Jackson</cp:lastModifiedBy>
  <dcterms:modified xsi:type="dcterms:W3CDTF">2002-06-24T15:34:16Z</dcterms:modified>
  <cp:revision>11</cp:revision>
  <dc:subject/>
  <dc:title>Interpréteur « Carmel » basé sur le Web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